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6578280"/>
            <a:ext cx="11709360" cy="269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424d44"/>
                </a:solidFill>
                <a:latin typeface="Palatino"/>
              </a:rPr>
              <a:t>Click to edit the title text format</a:t>
            </a:r>
            <a:endParaRPr b="0" lang="en-US" sz="75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Click to edit the outline text format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1" indent="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Second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2" algn="ctr">
              <a:lnSpc>
                <a:spcPct val="120000"/>
              </a:lnSpc>
              <a:buClr>
                <a:srgbClr val="5d6a61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Third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3" algn="ctr">
              <a:lnSpc>
                <a:spcPct val="120000"/>
              </a:lnSpc>
              <a:buClr>
                <a:srgbClr val="5d6a61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Fourth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4" algn="ctr">
              <a:lnSpc>
                <a:spcPct val="120000"/>
              </a:lnSpc>
              <a:buClr>
                <a:srgbClr val="5d6a61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Fifth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5">
              <a:spcBef>
                <a:spcPts val="799"/>
              </a:spcBef>
              <a:buClr>
                <a:srgbClr val="424d44"/>
              </a:buClr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Sixth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6">
              <a:spcBef>
                <a:spcPts val="799"/>
              </a:spcBef>
              <a:buClr>
                <a:srgbClr val="424d44"/>
              </a:buClr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Seventh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47640" y="6578280"/>
            <a:ext cx="1170936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424d44"/>
                </a:solidFill>
                <a:latin typeface="Palatino"/>
              </a:rPr>
              <a:t>Click to edit the title text format</a:t>
            </a:r>
            <a:endParaRPr b="0" lang="en-US" sz="75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47640" y="7988040"/>
            <a:ext cx="117093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1000"/>
          </a:bodyPr>
          <a:p>
            <a:pPr indent="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Click to edit the outline text format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1" algn="ctr">
              <a:lnSpc>
                <a:spcPct val="110000"/>
              </a:lnSpc>
              <a:buClr>
                <a:srgbClr val="5d6a61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Second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2" algn="ctr">
              <a:lnSpc>
                <a:spcPct val="110000"/>
              </a:lnSpc>
              <a:buClr>
                <a:srgbClr val="5d6a61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Third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3" algn="ctr">
              <a:lnSpc>
                <a:spcPct val="110000"/>
              </a:lnSpc>
              <a:buClr>
                <a:srgbClr val="5d6a61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Fourth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4" algn="ctr">
              <a:lnSpc>
                <a:spcPct val="110000"/>
              </a:lnSpc>
              <a:buClr>
                <a:srgbClr val="5d6a61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Fifth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5" algn="ctr">
              <a:lnSpc>
                <a:spcPct val="110000"/>
              </a:lnSpc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Sixth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6" algn="ctr">
              <a:lnSpc>
                <a:spcPct val="110000"/>
              </a:lnSpc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Seventh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1" marL="838080" indent="-444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2" marL="12826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3" marL="17272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4" marL="21718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5" marL="21718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6" marL="21718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47640" y="2628720"/>
            <a:ext cx="560088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956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1" marL="745560" indent="-39528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2" marL="114156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3" marL="153720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4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5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6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47640" y="647280"/>
            <a:ext cx="11709360" cy="845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408960" indent="-40896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1" marL="770760" indent="-40860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2" marL="1179720" indent="-40896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3" marL="1589040" indent="-40896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4" marL="1998000" indent="-40896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5" marL="1998000" indent="-40896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6" marL="1998000" indent="-40896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424d44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7280" y="647640"/>
            <a:ext cx="5854680" cy="425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424d44"/>
                </a:solidFill>
                <a:latin typeface="Palatino"/>
              </a:rPr>
              <a:t>Click to edit the title text format</a:t>
            </a:r>
            <a:endParaRPr b="0" lang="en-US" sz="75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47280" y="4889520"/>
            <a:ext cx="5854680" cy="421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Click to edit the outline text format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Second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Third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Fourth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Fifth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Sixth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Seventh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56120" y="2628720"/>
            <a:ext cx="56005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956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1" marL="745560" indent="-39528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2" marL="114156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3" marL="153720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4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5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6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1" marL="838080" indent="-444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2" marL="12826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3" marL="17272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4" marL="21718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5" marL="21718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6" marL="21718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47640" y="2628720"/>
            <a:ext cx="560088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956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1" marL="745560" indent="-39528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2" marL="114156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3" marL="153720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4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5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6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7640" y="2628720"/>
            <a:ext cx="11709360" cy="450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424d44"/>
                </a:solidFill>
                <a:latin typeface="Palatino"/>
              </a:rPr>
              <a:t>Click to edit the title text format</a:t>
            </a:r>
            <a:endParaRPr b="0" lang="en-US" sz="75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hyperlink" Target="http://dir.yahoo.com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http://info.yahoo.com/legal/us/yahoo/utos/utos-173.html" TargetMode="Externa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hyperlink" Target="http://info.yahoo.com/copyright/us/details.html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hyperlink" Target="http://dir.yahoo.com/Arts/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dir.yahoo.com/Business_and_Economy/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dir.yahoo.com/Computers_and_Internet/" TargetMode="External"/><Relationship Id="rId8" Type="http://schemas.openxmlformats.org/officeDocument/2006/relationships/image" Target="../media/image6.png"/><Relationship Id="rId9" Type="http://schemas.openxmlformats.org/officeDocument/2006/relationships/hyperlink" Target="http://dir.yahoo.com/Education/" TargetMode="External"/><Relationship Id="rId10" Type="http://schemas.openxmlformats.org/officeDocument/2006/relationships/image" Target="../media/image6.png"/><Relationship Id="rId11" Type="http://schemas.openxmlformats.org/officeDocument/2006/relationships/hyperlink" Target="http://dir.yahoo.com/Entertainment/" TargetMode="External"/><Relationship Id="rId12" Type="http://schemas.openxmlformats.org/officeDocument/2006/relationships/image" Target="../media/image6.png"/><Relationship Id="rId13" Type="http://schemas.openxmlformats.org/officeDocument/2006/relationships/hyperlink" Target="http://dir.yahoo.com/Government/" TargetMode="External"/><Relationship Id="rId14" Type="http://schemas.openxmlformats.org/officeDocument/2006/relationships/image" Target="../media/image6.png"/><Relationship Id="rId15" Type="http://schemas.openxmlformats.org/officeDocument/2006/relationships/hyperlink" Target="http://dir.yahoo.com/Health/" TargetMode="External"/><Relationship Id="rId16" Type="http://schemas.openxmlformats.org/officeDocument/2006/relationships/image" Target="../media/image6.png"/><Relationship Id="rId17" Type="http://schemas.openxmlformats.org/officeDocument/2006/relationships/hyperlink" Target="http://dir.yahoo.com/Recreation/" TargetMode="External"/><Relationship Id="rId18" Type="http://schemas.openxmlformats.org/officeDocument/2006/relationships/hyperlink" Target="http://dir.yahoo.com/Reference/" TargetMode="External"/><Relationship Id="rId19" Type="http://schemas.openxmlformats.org/officeDocument/2006/relationships/hyperlink" Target="http://dir.yahoo.com/Regional/" TargetMode="External"/><Relationship Id="rId20" Type="http://schemas.openxmlformats.org/officeDocument/2006/relationships/hyperlink" Target="http://dir.yahoo.com/Science/" TargetMode="External"/><Relationship Id="rId21" Type="http://schemas.openxmlformats.org/officeDocument/2006/relationships/hyperlink" Target="http://dir.yahoo.com/Society_and_Culture/" TargetMode="External"/><Relationship Id="rId22" Type="http://schemas.openxmlformats.org/officeDocument/2006/relationships/hyperlink" Target="http://dir.yahoo.com/new/" TargetMode="External"/><Relationship Id="rId23" Type="http://schemas.openxmlformats.org/officeDocument/2006/relationships/hyperlink" Target="http://dir.yahoo.com/thespark/" TargetMode="External"/><Relationship Id="rId2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7640" y="6959160"/>
            <a:ext cx="1170936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4d44"/>
                </a:solidFill>
                <a:latin typeface="Palatino"/>
              </a:rPr>
              <a:t>YAHOO! DIRECTORY</a:t>
            </a:r>
            <a:endParaRPr b="0" lang="en-US" sz="6400" spc="-1" strike="noStrike">
              <a:solidFill>
                <a:srgbClr val="424d44"/>
              </a:solidFill>
              <a:latin typeface="Palatino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3594240" y="1927080"/>
            <a:ext cx="5803920" cy="2098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8974800" y="8709480"/>
            <a:ext cx="2750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  <a:ea typeface="Palatino"/>
              </a:rPr>
              <a:t>Andreja Borin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Palatino"/>
              </a:rPr>
              <a:t>Web directory</a:t>
            </a:r>
            <a:endParaRPr b="0" lang="en-US" sz="7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a link database on the World Wide Web</a:t>
            </a:r>
            <a:endParaRPr b="0" lang="en-US" sz="36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it links onto the other web sites </a:t>
            </a:r>
            <a:endParaRPr b="0" lang="en-US" sz="36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organized into categories and subcategories</a:t>
            </a:r>
            <a:endParaRPr b="0" lang="en-US" sz="36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wide range of categories, languages, regions</a:t>
            </a:r>
            <a:endParaRPr b="0" lang="en-US" sz="36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Palatino"/>
              </a:rPr>
              <a:t>Yahoo directory</a:t>
            </a:r>
            <a:endParaRPr b="0" lang="en-US" sz="7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dir.yahoo.com</a:t>
            </a:r>
            <a:r>
              <a:rPr b="0" lang="en-US" sz="24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/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owned by Yahoo!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has a human-edited directory and a spider based index 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organized in a way that places related material in subject categories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sites are evaluated by Yahoo! editors 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Yahoo is the only site presenting the entire index. Inktomi, All The Web, AltaVista, and Overture receive filtered data resulting in partial and sometimes varied results.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Sites have been declined by Yahoo where there is not sufficient unique content on the pages submitted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10363320" y="279396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34680" y="2628720"/>
            <a:ext cx="64897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hoo! Directory offer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wo op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suggesting websites for possible listing: 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1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Standard", which is free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2.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d submission process offers expedited review.                                                            https://ecom.yahoo.com/dir/submit/intro/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ment is required when suggesting a commercial site.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info.yahoo.com/legal/us/yahoo/utos/utos-173.html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8"/>
          <a:stretch/>
        </p:blipFill>
        <p:spPr>
          <a:xfrm>
            <a:off x="7581960" y="3606840"/>
            <a:ext cx="467352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74360"/>
            <a:ext cx="11709360" cy="845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0">
              <a:lnSpc>
                <a:spcPct val="120000"/>
              </a:lnSpc>
              <a:spcBef>
                <a:spcPts val="4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4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Business Express Plan ~$299 yearly 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4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one’s site will be reviewed with 7 days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4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fill in the form and submit it while making sure that the title and description contain keyword phrases relevant to one’s site (it can be misplaced within different category)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4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one must have suitable URL content before registering the page as to receive good ranking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4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payment is required when promoting a commercial site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4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Copyright protection -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info.yahoo.com/copyright/us/details.html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4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Privacy --  http://info.yahoo.com/privacy/us/yahoo/search/details.html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99" name=""/>
          <p:cNvSpPr/>
          <p:nvPr/>
        </p:nvSpPr>
        <p:spPr>
          <a:xfrm>
            <a:off x="1060560" y="1119960"/>
            <a:ext cx="5063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PAID DIRECTORY</a:t>
            </a:r>
            <a:endParaRPr b="0" lang="en-US" sz="4800" spc="-1" strike="noStrike">
              <a:solidFill>
                <a:srgbClr val="424d44"/>
              </a:solidFill>
              <a:latin typeface="Palatino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0"/>
          <a:stretch/>
        </p:blipFill>
        <p:spPr>
          <a:xfrm>
            <a:off x="8583480" y="800280"/>
            <a:ext cx="2502000" cy="32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hoo! Categories: </a:t>
            </a:r>
            <a:endParaRPr b="0" lang="en-US" sz="7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Arts &amp; Humanities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Business &amp; Economy</a:t>
            </a:r>
            <a:r>
              <a:rPr b="0" lang="en-US" sz="2400" spc="-1" strike="noStrike">
                <a:solidFill>
                  <a:srgbClr val="424d44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Computers &amp; Internet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Education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Entertainment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Government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ealth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24d44"/>
                </a:solidFill>
                <a:uFillTx/>
                <a:latin typeface="Times New Roman"/>
                <a:ea typeface="Times New Roman"/>
              </a:rPr>
              <a:t>News &amp; Media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03" name=""/>
          <p:cNvSpPr/>
          <p:nvPr/>
        </p:nvSpPr>
        <p:spPr>
          <a:xfrm>
            <a:off x="6796800" y="3030120"/>
            <a:ext cx="28674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Palatino"/>
                <a:ea typeface="Palatino"/>
                <a:hlinkClick r:id="rId17"/>
              </a:rPr>
              <a:t>Recreation &amp; Sports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04" name=""/>
          <p:cNvSpPr/>
          <p:nvPr/>
        </p:nvSpPr>
        <p:spPr>
          <a:xfrm>
            <a:off x="6849000" y="3868560"/>
            <a:ext cx="1454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Palatino"/>
                <a:ea typeface="Palatino"/>
                <a:hlinkClick r:id="rId18"/>
              </a:rPr>
              <a:t>Reference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05" name=""/>
          <p:cNvSpPr/>
          <p:nvPr/>
        </p:nvSpPr>
        <p:spPr>
          <a:xfrm>
            <a:off x="6937920" y="4668480"/>
            <a:ext cx="12639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Palatino"/>
                <a:ea typeface="Palatino"/>
                <a:hlinkClick r:id="rId19"/>
              </a:rPr>
              <a:t>Regional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06" name=""/>
          <p:cNvSpPr/>
          <p:nvPr/>
        </p:nvSpPr>
        <p:spPr>
          <a:xfrm>
            <a:off x="6928560" y="5506560"/>
            <a:ext cx="1085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Palatino"/>
                <a:ea typeface="Palatino"/>
                <a:hlinkClick r:id="rId20"/>
              </a:rPr>
              <a:t>Science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07" name=""/>
          <p:cNvSpPr/>
          <p:nvPr/>
        </p:nvSpPr>
        <p:spPr>
          <a:xfrm>
            <a:off x="6876360" y="6306840"/>
            <a:ext cx="24969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Palatino"/>
                <a:ea typeface="Palatino"/>
                <a:hlinkClick r:id="rId21"/>
              </a:rPr>
              <a:t>Society &amp; Culture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08" name=""/>
          <p:cNvSpPr/>
          <p:nvPr/>
        </p:nvSpPr>
        <p:spPr>
          <a:xfrm>
            <a:off x="6943320" y="7119720"/>
            <a:ext cx="2138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Palatino"/>
                <a:ea typeface="Palatino"/>
                <a:hlinkClick r:id="rId22"/>
              </a:rPr>
              <a:t>New Additions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09" name=""/>
          <p:cNvSpPr/>
          <p:nvPr/>
        </p:nvSpPr>
        <p:spPr>
          <a:xfrm>
            <a:off x="6915960" y="7932600"/>
            <a:ext cx="21844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Palatino"/>
                <a:ea typeface="Palatino"/>
                <a:hlinkClick r:id="rId23"/>
              </a:rPr>
              <a:t>The Spark Blog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